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0A598-8247-40D2-ABA3-8C84351C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F217-7DE1-47EE-8F96-902F57DB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9BD4-4245-4A69-96C6-A12CDAA2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0AFA-E493-4301-883F-7FFEB4D0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593F-0A49-4627-BB6D-C88EF1A6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5670-FE19-480F-A774-006199C5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38F1-4D45-4505-B6A9-C57678A9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63A6-3195-4062-8040-340C82D9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ADA7-0333-440B-96D2-3A1F1D48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099F-93F9-4487-977D-309C8FF1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0C29-7E9A-4B7B-9DEE-304698DF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F9F9-CCED-4C98-BA5A-EE77A4B9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3B3D-7023-41A8-91BD-22DCDF12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34FE-8E65-42F9-BD5D-C262D82E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A986-10B2-4C4F-9BB7-25CACEB0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6D1B-712B-496A-8A2A-A9884C3E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E61D-5C10-451A-A687-86853FCC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B734-3DD3-48D6-A737-83C01C5C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20F2-FC29-4D24-A65B-671E5117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5F7EA-6360-43B5-9584-0845F496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8D8D9-A2D9-47E0-9A49-4E6326D2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3D6F-1895-475D-AB51-5ED11D8F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F88C-91F5-4A8E-842E-A9C93FD7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FF70-6EAC-4BB0-B6E7-003EDD42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819C-2F20-47ED-9D3E-3727A1AA84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1AE1-F374-4E71-BD51-FF86741EC2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184464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OPERATIVIDAD DE LOS PLANES MUNICIPALES DE EMERGENCIA NUCLEAR: POSIBLES LINEAS DE MEJO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9640" y="364500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ill Sans MT"/>
              </a:rPr>
              <a:t>JORNADA TÉCNICA SOBRE PLANES MUNICIPALES DE EMERGENCIA NUCLEAR PARA AUTORIDADES MUNICIPALES DE ZONA I DE LOS PEN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02" name="Picture 156" descr="Imagen anagrama map"/>
          <p:cNvPicPr/>
          <p:nvPr/>
        </p:nvPicPr>
        <p:blipFill>
          <a:blip r:embed="rId1"/>
          <a:stretch/>
        </p:blipFill>
        <p:spPr>
          <a:xfrm>
            <a:off x="179280" y="260280"/>
            <a:ext cx="2667240" cy="460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6454080" y="609300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9 de octubre de 2015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3276720" y="342900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7 CuadroTexto"/>
          <p:cNvSpPr/>
          <p:nvPr/>
        </p:nvSpPr>
        <p:spPr>
          <a:xfrm>
            <a:off x="971640" y="4653000"/>
            <a:ext cx="729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Carlos Dueñas Molina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ubdirector General de Prevención y Planificación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Dirección General de Protección Civil y Emergencias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inisterio del Interior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2. DISTRIBUCIÓN DE COMPRIMIDOS DE YODURO POTÁSIC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1197000"/>
            <a:ext cx="9299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istribución previa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 las dosis necesarias de yoduro potásico a la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blación residente en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zona I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mediante las oficinas d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armacia local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tervención de los médicos de famili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a los centros educativos, a lo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entros de salud y hospitales, y a otros lugares de pública concurrenc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ara los que la predistribución se considere adecuad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formació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irecta a l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oblació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acerca de la profilaxis radiológica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 yoduro potásico, con participación de los farmacéuticos locales,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édicos de familia y otro personal sanitario, e información general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ediante programas periódicos, participación social y apoyo de medio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 comunicación  locale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clusión en cada PPE de un Programa sobre Profilaxis Radiológic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3. ACTIVIDADES DE APOYO AL CONFINAMIENT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80720" y="1125360"/>
            <a:ext cx="9049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clusión en el PEN de un Estudio de Vulnerabilidad  y Actuacion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e Emergencia en Redes de Suministro de Agua a Poblacione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formación previa a la población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disponibilidad d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ceptores de Radio y TV para información e instrucciones)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riterios para la toma de decisiones sobre confinamiento de l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población en situaciones de emergencia: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omo medida previa para ordenar la evacu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En aquellos accidentes con tiempo estimado de emisión no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superior a diez hora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- En general el confinamiento no se prolongará por un tiemp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superior a 24 hora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4. ACTIVIDADES DE APOYO A LA EVACUACIÓ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1268280"/>
            <a:ext cx="9144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ada PEN incluirá u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lan de Evacuación de la Zona I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mediante el cual se asegure, al menos, la evacuación de los centros de enseñanza, centros hospitalarios, residencias de personas de movilidad reducida y de todas aquellas personas que no dispongan de medios propios para la evacu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La actividad de apoyo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a la evacuación por parte cad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organización municip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quedará recogida en el correspondiente Plan de Evacuación, y estará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e acuerdo con sus  posibilidades y capacidade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formación a la población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 de la población en relación con el planeamiento de la medid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FORZAMIENTO DE LA CANTIDAD, CALIDAD Y ORGANIZACIÓN DE LOS RECURSOS HUMANO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0880" y="1052640"/>
            <a:ext cx="91432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1. Incremento de la cantidad de personal encuadrado en las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organizaciones municipales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2. Formación del personal de las organizaciones municipales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86064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3. Mejora de la organización de los recursos humanos adscritos al PAMEN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. INCREMENTO DE LA CANTIDAD DE PERSONAL ENCUADRAD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N LAS ORGANIZACIONES MUNICIPAL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53000" y="1011240"/>
            <a:ext cx="887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uantificar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la dotación de recursos humanos necesarios para cad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na de las tareas asignadas al PAMEN, mediante la realización d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imulacro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en las condiciones más “reales” posible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omentar la participación (colaboración) social en el refuerzo de l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rganización del PAMEN, mediante la creación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e Agrupacion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Municipales de Voluntarios de Protección Civil (para el apoyo a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los PAMEN) u otras formas asociativas de participación social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2. FORMACIÓN DEL PERSONAL DE LAS ORGANIZACIONES MUNICIPAL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-39240" y="981000"/>
            <a:ext cx="92545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valuar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anualmente las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necesidade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formativas de cada organizació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unicipal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as necesidades formativas de cada organización municipal s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ncorporará al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ograma Anual de Formación de cada PE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elaborad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 forma participativ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gistro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el Personal adscrito al Plan Exterior correspondiente, en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ada Subdelegación del Gobierno, que haya realizado actividad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ormativas en el marco del Programa de Formación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, incluyendo lo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actuantes municipale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reseñando las actividades formativas en qu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ubieran participado y fecha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eterminadas actividades formativas han de ser obligatoria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(particularmente las que tienen que ver con la propia seguridad)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3. MEJORA DE LA ORGANIZACIÓN DE LOS RECURSOS HUMANO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85572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visar la organizació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e cada PAMEN de acuerdo con la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ctividades que está previsto desarrollar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segurar la rápid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corporación, en caso de emergenci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de todos los miembros del comité ejecutivo del PAME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acer efectiva en todos los casos, la disposición del PLABEN según la cual “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l personal adscrito al PAMEN será previamente designado y acreditado por su director (el alcalde)”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ver, en la organización de cada PAMEN, las figuras de un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sponsable de “participación social” y un responsable de formación del personal adscrito a la organiz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ADECUACIÓN DE LOS RECURSOS MATERIAL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-144360" y="1214280"/>
            <a:ext cx="9394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Adecuar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los procedimientos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del sistema  de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mantenimiento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gestión centralizada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para una repuesta más ágil y eficaz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Fundamentar las solicitudes de subvención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de  recursos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materiales para cada PAMEN exclusivamente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en su utilidad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para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la puesta en práctica de las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actividades previstas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en el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mismo (incluidas las de preparación) , dentro de las norma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a que obliga la propia naturaleza de la subvención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Reconsiderar la provisión de determinados recursos para su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provisión por el nivel central (ECD’s portátiles, por ejemplo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OCEDIMIENTOS DE ELABORACIÓN, APROBACIÓN, DIFUSIÓN Y UTILIZACIÓN DEL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-1800" y="855720"/>
            <a:ext cx="9228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articipación social en la elaboración de los PAMEN , mediante 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establecimiento, al menos, de un proceso de información pública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revio a su aprobación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(Ley 17/2015 del sistema nacional de protecció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vil)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Inclusión en el”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rograma anual de información preventiva a l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oblación” del correspondiente PEN,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 las medidas adecuadas para l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ifusión pública del plan una vez esté aprobado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Puesta a prueba del PAMEN, mediante el establecimiento de u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rograma de ejercicios y simulacros”,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efinido y puesto en práctic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on participación social, dentro del Programa anual que con el mism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objetivo se establezca en el PEN correspondiente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Informatización del PAMEN para facilitar su operatividad en caso d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Emergenci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Acentuar el papel de las organizaciones municipales en las actuaciones de preparación e implantación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fundamentalmente en las dirigidas a facilitar la participación de la población (programas de información a la población y realización de ejercicios y simulacros) y establecer cauces apropiados a dicha finalida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implificar las actividades operativas en situaciones de emergenci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ahora responsabilidad de las organizaciones municipales,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mediante cambios en el desempeño de las mismas y/o reforzando la organización y recursos procedentes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del nivel central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(UME, principalmente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Facilitar el desempeño del apoyo a la profilaxis radiológic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mediante la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predistribución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de comprimidos de yoduro potásico a través de las oficinas de farmacia locales y la difusión de la correspondiente información sanitari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forzar el papel de apoyo de las organizaciones municipales a los planes de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autoprotección de los centros de enseñanz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teniendo en cuenta la mayor vulnerabilidad de niños y jóven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Considerar el papel de las organizaciones municipales  en la puesta en práctica de medidas dirigidas a facilitar la normalización de la vida socioeconómica de las áreas afectada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627280" y="18900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LINEAS DE MEJORA (SÍNTESIS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15960" y="1125360"/>
            <a:ext cx="102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(Plan Básico de Emergencia Nuclear  aprobado por el Real Decreto 1546/2004, de 25 de junio)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16048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ill Sans MT"/>
              </a:rPr>
              <a:t>Funciones de los PAMEN en situaciones de emergenc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50920" y="2276640"/>
            <a:ext cx="8893080" cy="42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lertar, informar y dar avisos a la pobl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laborar con los servicios de los grupos operativos en la aplicación de las medidas de protección a la pobl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cilitar el confinamiento y el abastecimiento a la población confinad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cilitar la evacuación de la población, en caso necesario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ransmitir, recibir y registrar las comunicaciones durante la emergenci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68360" y="189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ACTUACIONES DE LAS ORGANIZACIONES DE LOS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escudo"/>
          <p:cNvPicPr/>
          <p:nvPr/>
        </p:nvPicPr>
        <p:blipFill>
          <a:blip r:embed="rId1"/>
          <a:stretch/>
        </p:blipFill>
        <p:spPr>
          <a:xfrm>
            <a:off x="3564000" y="1916280"/>
            <a:ext cx="172080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SPONSABILIDADES DEL DIRECTOR DEL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50920" y="907920"/>
            <a:ext cx="8893080" cy="72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irigir y coordinar el PAM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tivar el PAMEN y declarar la situación que corresponda, de acuerdo con la órdenes del director del P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plicar las órdenes del director del PEN, en contacto con el jefe del grupo de coordinación y asistencia técnica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egurar el correcto funcionamiento del CECOPAL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ntener permanentemente informada a la población y sobre el comportamiento a adoptar, de acuerdo con las directrices del director del P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ar servicio de información a familiares de afectados, en coordinación con el gabinete de información y comunicación del P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acilitar la evacuación, teniendo en cuenta las singularidades de los centros de pública concurrencia como colegios, centros sanitarios etc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acilitar el transporte, albergue y abastecimiento a la población que lo precise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olicitar apoyo a la dirección del PEN, en caso de que se sobrepasen las capacidades del PAM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60240" indent="-660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En situaciones de normalida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(actividades de preparació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) Facilitar la puesta en práctica d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ogramas de informació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previa, de carácter preventivo a la pobl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) Procurar la adecuad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ormación del person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integrado en la organización del PAME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)  Realizar ejercicios y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imulacros periódico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que permitan mejorar la instrucción del personal adscrito a la organización del PAMEN, comprobar la idoneidad y el estado funcional de los medios a disposición para emergencias,  verificar el grado de operatividad del plan  y derivar de todo ello las medidas de mejo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)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omentar y facilitar l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articipación ciudadan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n las actividades anteriormente enunciada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68360" y="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ACTUACIONES DE LAS ORGANIZACIONES DE LOS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1052640"/>
            <a:ext cx="89647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os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AMEN son parte integrante de la organización gener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e la respuesta ante emergencias derivadas de accidentes en centrales nucleare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articipación ciudadana es un factor fundament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condicionante de la eficacia y eficiencia de las actividades previstas en los PAMEN 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ONSIDERACIONES BÁSICA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492360" y="2565360"/>
            <a:ext cx="1454400" cy="698400"/>
          </a:xfrm>
          <a:prstGeom prst="ellipse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NCR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564000" y="3141720"/>
            <a:ext cx="1454040" cy="698400"/>
          </a:xfrm>
          <a:prstGeom prst="ellipse">
            <a:avLst/>
          </a:prstGeom>
          <a:solidFill>
            <a:srgbClr val="0099cc">
              <a:alpha val="42000"/>
            </a:srgbClr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3564000" y="3716280"/>
            <a:ext cx="1417680" cy="698400"/>
          </a:xfrm>
          <a:prstGeom prst="ellipse">
            <a:avLst/>
          </a:prstGeom>
          <a:solidFill>
            <a:srgbClr val="0099cc">
              <a:alpha val="49000"/>
            </a:srgbClr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1763640" y="3213000"/>
            <a:ext cx="698400" cy="698760"/>
          </a:xfrm>
          <a:prstGeom prst="ellipse">
            <a:avLst/>
          </a:prstGeom>
          <a:solidFill>
            <a:srgbClr val="ff6600">
              <a:alpha val="27000"/>
            </a:srgbClr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I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2484360" y="3500280"/>
            <a:ext cx="1116000" cy="73080"/>
          </a:xfrm>
          <a:prstGeom prst="leftRightArrow">
            <a:avLst>
              <a:gd name="adj1" fmla="val 50000"/>
              <a:gd name="adj2" fmla="val 304004"/>
            </a:avLst>
          </a:prstGeom>
          <a:solidFill>
            <a:srgbClr val="e5e5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1619280" y="2421000"/>
            <a:ext cx="4608360" cy="2449440"/>
          </a:xfrm>
          <a:prstGeom prst="ellipse">
            <a:avLst/>
          </a:prstGeom>
          <a:solidFill>
            <a:srgbClr val="0099cc">
              <a:alpha val="22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QUILIBRIO ENTRE ACTIVIDADES Y MEDIO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771640" y="3068640"/>
            <a:ext cx="432000" cy="20876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708360" y="2276640"/>
            <a:ext cx="432000" cy="208728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6012000" y="3068640"/>
            <a:ext cx="431640" cy="20876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6877080" y="2133720"/>
            <a:ext cx="431640" cy="208728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771640" y="2133720"/>
            <a:ext cx="4537080" cy="107928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2771640" y="1989000"/>
            <a:ext cx="4537080" cy="107964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2771640" y="1844640"/>
            <a:ext cx="4537080" cy="107964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2771640" y="1700280"/>
            <a:ext cx="4537080" cy="107928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2771640" y="1557360"/>
            <a:ext cx="4537080" cy="107964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2771640" y="1413000"/>
            <a:ext cx="4537080" cy="107928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2771640" y="1268280"/>
            <a:ext cx="4537080" cy="107964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3999600" y="141300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CTIVIDAD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6443640" y="422100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RECURSOS HUMANO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5364360" y="528336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RECURSOS MATERIAL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3203280" y="429264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ORGANIZACIÓ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1763280" y="5300640"/>
            <a:ext cx="26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PARTICIPACIÓN SOCIA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0" y="1052640"/>
            <a:ext cx="89647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visión de las actuaciones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desarrollar por las organizaciones de los PAMEN, en caso de emergencia y en situaciones de normalidad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decuación de l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antidad, calidad y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organización de los recursos humanos adscritos al PAMEN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decuación d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cursos materiale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stímulo  de l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articipación social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consideración de los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ocedimiento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e elaboración, aprobación, difusión y utilización del PAME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LINEAS DE MEJORA DE LA OPERATIVIDAD DE LOS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170028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ifusión de alertas y avisos a la población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istribución de comprimidos de yoduro potásico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ctividades de apoyo al confinamiento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ctividades de apoyo a la evacuación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VISIÓN DE LAS ACTIVIDADES A DESARROLLAR POR LOS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. DIFUSIÓN DE ALERTAS Y AVISOS A LA POBLACIÓ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836640"/>
            <a:ext cx="9070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onseguir la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cobertura total de la zona I,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mediante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otación d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sirenas a los núcleos de población no cubiertos por megafonía, lo que implica: un código de señales acústicas de alerta, información a la población y la realización de simulacros con la frecuencia necesari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onseguir una absoluta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inmediatez en la alerta a la zona I A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mediante la autorización de accionamiento del sistema por el director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el PEI y la transmisión de mensajes vía móvil a los  responsabl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municipales. (Ley 17/2015,del sistema nacional de protección civil)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onseguir la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articipación de medios de comunicación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(radio y TV), para la difusión de mensales emenados de la dirección del PPE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esarrollar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rogramas de información previa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, de carácter preventivo,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a la población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acerca de las medidas a adoptar en cada caso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6:23:55Z</dcterms:created>
  <dc:creator>DGPCyE</dc:creator>
  <dc:description/>
  <dc:language>en-US</dc:language>
  <cp:lastModifiedBy>DGPCyE</cp:lastModifiedBy>
  <dcterms:modified xsi:type="dcterms:W3CDTF">2015-10-18T16:50:45Z</dcterms:modified>
  <cp:revision>38</cp:revision>
  <dc:subject/>
  <dc:title>Diapositiva 1</dc:title>
</cp:coreProperties>
</file>